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9.gif" ContentType="image/gif"/>
  <Override PartName="/ppt/media/image38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EF78F-1154-4C30-899B-3B68EC7521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0A88-CFB0-402B-A396-A767B689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F08E21-A546-4977-B2D6-7CFEDE3B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81EF2B-E6BD-4067-A54D-C2E6BA30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D7E22E-82D8-4D80-82AB-F55D7173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1E074E-E07F-49B1-A657-5F332B55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D95BB5-9DC7-4E07-A1E8-2DA318DF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09C307-7699-4820-96FB-975660AD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31B7BD-8A54-4AE6-BBD7-23427606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7F9D52-D7A8-480A-A874-F61262F9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D42D72-283C-41CF-8C64-46FD4BCD32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3C0DB-86D3-4DF3-B9C7-BF859273E8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45AA-DA16-40FE-B818-938617D2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A48AF-20C7-4F6B-B5FC-094E2BB9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E6EB2-D89C-48E4-BBAC-56155F9D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8F83B-76E0-4529-AAC7-71D61C0B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34599-24B1-442B-9EA4-D8A9FB41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C54A9-EEA9-411B-B476-808E0EB9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A8BF8-3A57-4629-BB03-3F02C24B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C63A6-BAC5-473D-8181-28B3A378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C00B6-45DD-415F-A2A2-58722D90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4E2A7-159D-48D1-8104-2734BDCD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EF4B5-8824-4A81-9179-80669540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899B8-9EEB-4E08-8D6F-CA13B1FB19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EDD53-C93D-4FB0-96F1-5B39864747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8DE193-F16F-463C-B564-9C8B148A39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AA0921-1D96-4DD4-97B4-17E4152F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C8CFBF-AFD3-4BAE-93CB-66820086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8C65A6-4415-4181-B04B-C8220CCF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90C974-115D-4D24-A3CE-CBF77206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6ED59C-3DF2-43CA-95DF-DF65FFB9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3E806D-6409-4566-BD52-B8EE7C12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563AC9-6575-43B7-8299-9CD5E860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C1B28C-9ED7-4C60-B7D9-46DFA186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02A74-F0CA-4C13-8620-F35F3A99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E11735-4151-4FF9-BC46-51BC6045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E1E757-2AD6-43AD-93E1-749DB41F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D66A57-74D5-4190-B364-B0E6BAE3C6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AA7AD9-A74C-42F6-8899-21167D058D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10CEC-56B8-47CD-8CF3-ED5EF165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6E550-8908-402B-B5C0-920F6E92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D61E3-AC67-4A98-8B76-BCB384A2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ED64B-29BE-46ED-99D1-A7E1E277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454AB-F0E0-4BF3-B970-4CC1F400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C32A6-7D4F-405A-B52A-60E42276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100E8-729D-4339-9263-2FE7D442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FB72E-DE1B-40D3-8C04-B5AEB959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1E867-7D53-4AA1-9834-DFD3E67F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FCC5D-349E-40A5-8778-85F19460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1CBD3-040C-47F8-A777-B5F14E2A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3E795-8332-42E5-B387-979F27934F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56502-C654-4E44-8D03-348A9FE2D3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9380D-78ED-4450-9FAF-70CA915E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901DC-1EC1-41D8-8CCD-158701D2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9381A-182F-492C-8D52-674C66E7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F65CF-6EC7-4955-BD12-2F457458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62D29-D4FD-4893-8F56-7C82D298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C66CC-777F-4D89-B5FC-ABE0C878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23C4A-6229-4FE6-92AC-1D16500B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AD4C1-3D0E-4209-AA70-B67AD5FF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0D9B8-E6EF-47E9-9868-F1F1B35B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A3C9B-5379-4B37-8C0C-AA1F2B24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C4B8A-0E49-4524-8B4E-1361E585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44753-F59D-4F5D-8CC2-35CD023C17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E504D-9C20-40CD-950A-D1041610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0017C-5F43-48E1-8035-4AFFA675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85737-4149-436A-AB8F-56888F2E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B8664-DF67-4971-8E50-1EF9FBD7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83291-7B3F-4E02-A7BB-074FCA0F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FE831-241D-4C35-826D-35A36E5D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02AAF-D35E-49DD-8E40-531DAF73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2FA55-3857-40E5-B0D4-C0FB4A90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260C6-48D9-467A-B345-C19D0AE8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21F4B-0FDB-4599-88A7-7BAD382F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20558-A5F2-4C43-A0AA-50B6E8C6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87A38-4851-4F08-AAB1-3933FBC8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6B98E-6C9B-43D8-93F5-06148965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256D9-DBCD-466C-AF8C-548541BC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5F4F3-25FE-4D3A-AFF6-403C306F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747EF-E65E-4D13-B3B8-9BD2BD52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851EF-0E3E-4AF4-92DC-F185E9B4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38C75-C26A-4488-A2E4-61F499CD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63333-E9CC-4A1F-A93B-6D613B80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B736F-25CD-45F7-BA17-2D268FD9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D6C5F-A3B1-41BC-91FF-000ADA08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DD9B8-3651-4004-85D4-ACB85147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10B57-0B2D-4802-A047-9C727B19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7DDEC-4BC0-4E3A-858B-08CE17F7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7C50B-509F-4E4A-8408-BC816828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34848-02C1-4A5B-8BB3-32992AA4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CAC1D-2783-4E2E-B0D2-57BBFB3F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02B1D-2D5B-40F8-81EE-01D05616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33580-810F-49B7-835F-D6BBC9B5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CB25F-7805-4220-963C-C2A9ECA9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477E7-6A91-4911-A047-E2CF07D7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6542A-7B82-44A1-BCCA-4E2FD8A3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9BD02-478F-46A5-AA29-AE2A9513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507C7-0917-4044-B0D7-E0196B7A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A84F5-4F5C-48E4-9CD4-FFB80407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EF2C5-5634-410D-95F2-599BD6DF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5589E-9833-4B8F-9C5B-62D5AD40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AED1D-7501-4C0C-B54C-94F89F75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681F9-56AE-447B-BC90-30809AC1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9B415-52F5-4F6C-93C8-476D537E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BB14D-4206-4FED-BEAC-6CE26453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3EA43-1505-425B-80FE-96C54613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52BE7-37CE-4B10-A5F8-3CAE7C9B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277D35-3731-4651-A84A-3A791773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860EC-630D-47B1-A87E-899708AF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F7DCC-377F-4740-AE63-87E8D80C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5727C-79D8-421C-AA40-1BF035C5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F828E-B8FE-448D-A314-6C30BF89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E296B-EF32-45E3-BC3E-36CFB35F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A0927-4625-4610-B8E0-B40EAC89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96177E-4732-4696-942A-E281A950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9475C-1D77-45FA-9F79-65B6CFBA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DC8C14-20F8-489C-AB17-1B8B8A3E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92CD2-80B7-478E-A71E-494BDC85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40998D-A47F-418B-921E-C122F6AD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DC1A7-5AB6-434E-9153-43DFDE2C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E393B5-767E-4303-B502-A307EEAF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86531F-667D-4F81-90DE-BFF9D140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D7876F-6676-49BA-914D-A4CD22E4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C63CF-5C7F-4EE9-8702-A51D277F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A7C296-AFDE-4D6A-94EE-A1B4C9A7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29FB3-D30B-4226-B428-EF6AD792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67F32-0A00-4F46-AAAD-18F03487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936397-AD49-45DA-AA3C-EC17C4B1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DB0F5E-4995-4CFD-996A-3A808047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7F5F78-4914-4E65-82AA-E0E1B21B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EB542B-0B13-43E6-90A5-47523E5F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107668-32B2-46DE-A688-269AD7BE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CEC992-04E8-4563-8DB8-935CF019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4BE02-0464-4735-9D0B-8655A693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7C510-6AE4-444F-A2D1-DCDB21B4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055588-B357-488D-97E4-A8E66F9B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E2DA58-B418-4D66-A6AA-43429CA8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E801B5-0CB3-44F1-9ECE-65C516A6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1DE795-F9B3-4765-8768-EA1F0B45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F3C2CE-2AD1-4861-B2CD-9606EC20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F5BDB1-2158-4969-B9B2-B44C6579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AE7C2E-40E6-4EB5-BA48-81AFCB03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6000BE-B9B4-4EC9-8DC1-42EE07AD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11EFB5-B57E-444C-AF7C-7C5FAA7B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9E771-F559-4163-A696-276B8B21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1E422-19B0-4A2E-9868-6A060476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2AB0C3-C7DD-4A5E-8D89-7609ADA6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98EAA8-8596-4686-8648-EA539674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B3463B-B1CE-49B9-A9AA-B2C86A32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70B8AF-B58D-429D-9C8D-B31DF74A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EDEEC3-090A-4E85-8DC5-F9C5A340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B9C914-2823-4B6F-96C0-B1775B10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D96AEB-9DDF-447F-9257-FB4BF3BB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1DBCD2-7667-487D-947A-5D6EC7C2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10AF10-E97D-471B-BB21-BFBCCA00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E629EC-87F4-47E6-978D-D354729C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318A3-8701-49AC-BAEE-130DB361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4C8850-305A-40D5-9D20-01D4F59F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AD3561-C49F-45DA-8B93-FEAB260D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582BFD-D7AF-4678-91C7-0383B0AE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6D2387-2CCD-4A39-BA26-A70B1C89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6D5ECC-5B2D-4B57-8204-097E3E37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33AC2C-9B73-450B-8613-0FF97A11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F6B8AD-E4EF-49DE-925E-29352EC2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9FF145-5A33-4290-AAE7-429EB470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5BE362-2635-42A9-9EBB-48E406A4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41DCCA-AED0-4FA8-932A-43E3C4FB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1A1CC3-9751-4274-AC0E-08A5D9688A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B3111C-5223-408C-8843-D7B20D05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18BA40-A799-4D66-AE33-17CC7DE8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055AD3-7C09-40A1-B87B-B3C057D8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EA91D4-DE70-4F87-A175-599AE244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0F079A-875A-4C37-9102-941BCA4E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14A37E-AA1E-4799-BD7E-75CE3C68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FA12E8-A6D9-42AB-B3EB-0FC38192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45C863-0C6D-4A87-9B60-38C09360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46213E-F9D4-47C1-8C39-793BB3D0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92DE2-DD20-4EB6-AC90-3877E934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37BC46-F07F-4DBA-91CD-3F9FCD36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A5B911-D17D-49D9-BBEE-BCCD5ECD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6B5153-9012-41BD-86F5-4BA1E213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FDA092-516B-49BD-A3D7-389A6130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822D6A-1150-4968-AB21-A17FB28B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CB4DB1-CB37-4923-9CDD-B7F7891F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5AE4E2-F9A8-4380-94DC-50712817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727555-43C9-4B61-B329-A662C252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229C94-E431-4B45-AD53-8F16B7DC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232521-475D-4B21-A3C1-BB723E4B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B223C-F849-478B-8CA7-04391306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91132A-1982-44EC-9DB1-4DBF8159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6EB0E8-43BE-4FB4-BD44-62F246EF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751FCC-A75C-4200-B415-50903631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72AE6F-81DD-4FF4-B277-5F338FC9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C3396C-E205-41D2-B3F3-C29A10E1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E7C0F0-7C30-41A7-9505-4A7CECE8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522AB8-6E75-428A-BAE3-38641B22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88D391-C4A3-4388-8945-56B9F534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3CA2A8-9388-4BC6-95FE-0069E2A2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A2EA8C-27D6-41F7-84E7-11DF2C31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AF6D89-72D8-4688-BE8D-8406DBB6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D1379B-08F4-4EEE-8585-F5C85A14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F3657B-4A91-4052-B7F4-5DCB7347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2F0F2C-9747-466C-AD7E-64218C37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F76672-AC01-4C4E-85DA-3E8D78A0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9362B7-64EB-48DD-B60C-CE720936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037D9C-0843-481F-9D08-C1EB18D2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E213BB-73C9-4E78-9367-6BE3E7DE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78DCF8-143C-4EBE-AE0C-04B71751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BCB362-CB35-4336-9902-2C7FEC59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C29F9D-0782-45EA-A9E7-91B6E778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8A11B6-3EFD-4EBC-9B9A-146426FE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36E5B-C22B-41AF-83ED-287F3291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7FABE4-BD69-49C7-BC69-26392445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EB62CC-E88C-4FDB-A8D9-F3BEF6C2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0F57BB-8213-422D-A634-51942647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8801EE-1619-42B5-9167-81AB95DE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A70E55-EBF0-49B0-A4FD-45FE1B0B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77F1DD-14B2-45A8-AF43-9F895F27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C7267E-80A6-41FC-8C94-A4AAC95E04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3F89F-6BE4-4749-B2E8-A468C4D745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DE80E-4DE3-40B6-8E3B-34A8CE93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C8A2-E7D7-414C-845C-6C921AE9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6E5F9-81EC-4F6E-A2C1-5C10F561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F1ED0-C526-47CF-A0D8-B0F0CB84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151E0-42C0-4606-BF3C-B873FDC1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AD6DF-DF91-488F-A78E-BD03508F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99046-F50D-4352-9BC9-F454981A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DBEED-9684-4400-82EF-B4406B66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BCC67-6336-46BE-8C83-6205C080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DE13C-38D7-49CE-B255-3FD7CA83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B5EA4-23FD-4FF0-915A-45B35D12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66352-BD70-4289-B15B-9FF48B4084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DAF1FB-121D-485F-BA29-84FA017775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BECB0-40EB-4168-83D8-93BF211B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AAD745-8E9D-4349-BCCF-8E8BA118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836EA-FA76-4594-8708-4D593989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A8C27-9C77-4320-B515-729822B4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11CB81-8ED0-478B-A459-AB48F3DA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A23C12-EAB0-4A0E-836E-6B97D383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E8946-90DE-4C5B-99AB-FE55CBF4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6DCBB-7D48-41A6-88C2-747D26AB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46F344-0024-40BE-B0E8-3953DDF3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494145-3407-47B5-AA24-F48E0E62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DCA80A-3928-4F56-94FB-A656713F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2922C-D461-4C99-B3CB-61AC6DE6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F46962-B465-4DCA-837E-BBFE40A7AB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B5E0F1-B248-48EE-A116-22CA9AE3C4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7EBBAF-C3BA-4E23-BABB-276B83E5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A0F918-EEB0-4A83-9411-91BF8112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4923F2-BD3A-400E-A499-55ED7FB6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2DE654-5EB1-4F52-91E3-2715C18B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DA94BC-0FA6-4766-A5EA-6A0E09A6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DF5535-7CC5-42F1-A2C5-F6F5BD6B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D990E9-0C31-46B9-8799-5D8ADFAB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00EFD7-019E-40EA-8417-7C04D07D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0B2F4-7C35-4F01-A09F-9F38CC4E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BD7EA4-4468-463F-9D98-792E0FEB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E4557A-C3E6-421B-B71F-B67F64E7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FCB972-0856-4E5A-BD5A-7832A443FA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59E59-C333-4DDD-91CD-A0954B99F7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0D5AA-1373-408C-853C-64C5D17D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4B84C-B73A-4CFF-9475-42287E31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F64AE-34AF-4350-AA48-EA2C89FF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125F6-4E73-44D9-8755-00DBD30B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014FA-86A3-4081-9E17-46F9FE55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E35A8-80E8-4E46-B105-F276EA63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7345D-BC70-42B8-B944-FDA985D0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0A2B9-DDD0-4A26-A5F0-FD11A616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95118-8A55-43B4-9281-9A5B5AF2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97248-4C19-4557-82FB-B7B6FAC7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3E90A-6DDA-43A3-8D61-5479E2CE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2FCD3-9C6E-4071-B5B3-09C01D8F27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A091CC-3FCD-430F-A42F-43ECB74880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095067-9062-483E-B9C2-30FD03CC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7C2CB9-C16F-47B7-B35D-C01CD919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E040A-F002-4E43-9297-E98EC735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559496-A57B-4ED8-9E79-A4014523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BFD8D-1630-450B-8C2A-45CC5123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5279A-5BAF-42BB-A8CE-A4732264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DA5751-2C3C-4400-97FE-E47DED46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04EE4C-6E4B-479D-962B-9AD13DD3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E06D18-E8B9-4AA9-AFB7-EA7FC188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83861-E9E1-40BC-860C-5742505D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23404-399B-4DF6-8E66-C284B2FC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E97C90-36F0-4F32-BDCF-3BE30EFD00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349072-F706-4B11-8493-38276ED068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7CE1B9-F0A9-47E9-99AA-E1829CC7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2A60E2-8824-478A-99DF-C6BB8CD6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40F9-91E5-4E13-8FA3-9E5EA387825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6D1B-1357-4271-84EF-242045E1D5E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D763-BE2D-4FFE-8A51-95FFE9201B8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3BD5-E4A8-4657-B592-169B330447A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D8BD-5004-46D0-BC75-FDCFF43B2F2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1652-2B6D-4952-82B4-904F4C7055D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8243-A594-4AB5-93C6-F926A780DF5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64E4-F507-4DDA-AD37-F9703A079BD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55BB-9C09-4E65-AACF-45C1D01C751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F204-02FE-4856-87D2-522960A87F8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A9D8-93F8-430D-B703-1D83019F9D5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B842-1489-4273-9D02-9F67515BD46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88AC-3385-4043-AED8-31918A74ACB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975B-F04C-4AB4-9328-94985DA101F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F36C-1D00-4B15-891A-5ABAEBEFACE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BE13-EA38-45B8-BAA3-7A705F90D96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DA07-E46D-4B19-94E4-029BF6FB850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09CD-A9D4-4516-A906-2D76796AB15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530A-8D4F-48A6-A132-54EC89FD41D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6AFF-E5A7-4277-B81E-35260ABAB8E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5D63-0EE1-4E44-8A1F-53458E7E306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284C-6D4A-4425-9944-60EAEDF8A53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4FF6-66EA-4654-836E-DB859730DFB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8550-D5F1-4BAB-AD2E-D6CF2E52647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gif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0.jpeg"/><Relationship Id="rId13" Type="http://schemas.openxmlformats.org/officeDocument/2006/relationships/image" Target="../media/image9.gif"/><Relationship Id="rId14" Type="http://schemas.openxmlformats.org/officeDocument/2006/relationships/image" Target="../media/image13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9.gif"/><Relationship Id="rId12" Type="http://schemas.openxmlformats.org/officeDocument/2006/relationships/image" Target="../media/image10.jpe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762280" y="272736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65572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解 决 问 题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384200" y="1744560"/>
            <a:ext cx="91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角的初步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999" name="圆角矩形 14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01" name="椭圆 16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2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24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26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1"/>
          <p:cNvSpPr/>
          <p:nvPr/>
        </p:nvSpPr>
        <p:spPr>
          <a:xfrm>
            <a:off x="485640" y="736560"/>
            <a:ext cx="4786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用一副三角尺拼出一个钝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圆角矩形 2"/>
          <p:cNvSpPr/>
          <p:nvPr/>
        </p:nvSpPr>
        <p:spPr>
          <a:xfrm>
            <a:off x="436680" y="1285920"/>
            <a:ext cx="1928520" cy="571320"/>
          </a:xfrm>
          <a:prstGeom prst="roundRect">
            <a:avLst>
              <a:gd name="adj" fmla="val 16667"/>
            </a:avLst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知道了什么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圆角矩形 3"/>
          <p:cNvSpPr/>
          <p:nvPr/>
        </p:nvSpPr>
        <p:spPr>
          <a:xfrm>
            <a:off x="357120" y="3929040"/>
            <a:ext cx="2274840" cy="571680"/>
          </a:xfrm>
          <a:prstGeom prst="roundRect">
            <a:avLst>
              <a:gd name="adj" fmla="val 16667"/>
            </a:avLst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应该怎样做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6"/>
          <p:cNvGrpSpPr/>
          <p:nvPr/>
        </p:nvGrpSpPr>
        <p:grpSpPr>
          <a:xfrm>
            <a:off x="5072040" y="2085840"/>
            <a:ext cx="3997440" cy="938520"/>
            <a:chOff x="5072040" y="2085840"/>
            <a:chExt cx="3997440" cy="938520"/>
          </a:xfrm>
        </p:grpSpPr>
        <p:sp>
          <p:nvSpPr>
            <p:cNvPr id="1013" name="AutoShape 27"/>
            <p:cNvSpPr/>
            <p:nvPr/>
          </p:nvSpPr>
          <p:spPr>
            <a:xfrm>
              <a:off x="5072040" y="2085840"/>
              <a:ext cx="2857320" cy="857520"/>
            </a:xfrm>
            <a:prstGeom prst="wedgeRoundRectCallout">
              <a:avLst>
                <a:gd name="adj1" fmla="val 58083"/>
                <a:gd name="adj2" fmla="val 35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要拼出一个钝角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4" name="Picture 4" descr="E:\2017秋上·黄倩\其他\人\蜜蜂.gif蜜蜂"/>
            <p:cNvPicPr/>
            <p:nvPr/>
          </p:nvPicPr>
          <p:blipFill>
            <a:blip r:embed="rId8"/>
            <a:stretch/>
          </p:blipFill>
          <p:spPr>
            <a:xfrm>
              <a:off x="8218080" y="2085840"/>
              <a:ext cx="851400" cy="93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5" name="组合 26"/>
          <p:cNvGrpSpPr/>
          <p:nvPr/>
        </p:nvGrpSpPr>
        <p:grpSpPr>
          <a:xfrm>
            <a:off x="669960" y="1933560"/>
            <a:ext cx="4187880" cy="1924200"/>
            <a:chOff x="669960" y="1933560"/>
            <a:chExt cx="4187880" cy="1924200"/>
          </a:xfrm>
        </p:grpSpPr>
        <p:grpSp>
          <p:nvGrpSpPr>
            <p:cNvPr id="1016" name="组合 9"/>
            <p:cNvGrpSpPr/>
            <p:nvPr/>
          </p:nvGrpSpPr>
          <p:grpSpPr>
            <a:xfrm>
              <a:off x="669960" y="1933560"/>
              <a:ext cx="4187880" cy="1126080"/>
              <a:chOff x="669960" y="1933560"/>
              <a:chExt cx="4187880" cy="1126080"/>
            </a:xfrm>
          </p:grpSpPr>
          <p:pic>
            <p:nvPicPr>
              <p:cNvPr id="1017" name="Picture 2" descr="E:\2017秋上·黄倩\其他\人\海豚.jpg海豚"/>
              <p:cNvPicPr/>
              <p:nvPr/>
            </p:nvPicPr>
            <p:blipFill>
              <a:blip r:embed="rId9"/>
              <a:stretch/>
            </p:blipFill>
            <p:spPr>
              <a:xfrm>
                <a:off x="669960" y="2135520"/>
                <a:ext cx="686880" cy="92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AutoShape 27"/>
              <p:cNvSpPr/>
              <p:nvPr/>
            </p:nvSpPr>
            <p:spPr>
              <a:xfrm>
                <a:off x="1593360" y="1933560"/>
                <a:ext cx="3264480" cy="1067040"/>
              </a:xfrm>
              <a:prstGeom prst="wedgeRoundRectCallout">
                <a:avLst>
                  <a:gd name="adj1" fmla="val -57870"/>
                  <a:gd name="adj2" fmla="val 30421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这两个三角尺都有一个直角和两个锐角。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9" name="Picture 5" descr=""/>
            <p:cNvPicPr/>
            <p:nvPr/>
          </p:nvPicPr>
          <p:blipFill>
            <a:blip r:embed="rId10"/>
            <a:stretch/>
          </p:blipFill>
          <p:spPr>
            <a:xfrm>
              <a:off x="2214360" y="3060000"/>
              <a:ext cx="500040" cy="79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0" name="Picture 5" descr=""/>
            <p:cNvPicPr/>
            <p:nvPr/>
          </p:nvPicPr>
          <p:blipFill>
            <a:blip r:embed="rId11"/>
            <a:stretch/>
          </p:blipFill>
          <p:spPr>
            <a:xfrm>
              <a:off x="3286440" y="3000600"/>
              <a:ext cx="500040" cy="79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1" name="组合 9"/>
          <p:cNvGrpSpPr/>
          <p:nvPr/>
        </p:nvGrpSpPr>
        <p:grpSpPr>
          <a:xfrm>
            <a:off x="504720" y="4714920"/>
            <a:ext cx="2853000" cy="1181160"/>
            <a:chOff x="504720" y="4714920"/>
            <a:chExt cx="2853000" cy="1181160"/>
          </a:xfrm>
        </p:grpSpPr>
        <p:pic>
          <p:nvPicPr>
            <p:cNvPr id="1022" name="Picture 2" descr="E:\2017秋上·黄倩\其他\人\海豚.jpg海豚"/>
            <p:cNvPicPr/>
            <p:nvPr/>
          </p:nvPicPr>
          <p:blipFill>
            <a:blip r:embed="rId12"/>
            <a:stretch/>
          </p:blipFill>
          <p:spPr>
            <a:xfrm>
              <a:off x="504720" y="4972680"/>
              <a:ext cx="643320" cy="92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AutoShape 27"/>
            <p:cNvSpPr/>
            <p:nvPr/>
          </p:nvSpPr>
          <p:spPr>
            <a:xfrm>
              <a:off x="1356840" y="4714920"/>
              <a:ext cx="2000880" cy="1066320"/>
            </a:xfrm>
            <a:prstGeom prst="wedgeRoundRectCallout">
              <a:avLst>
                <a:gd name="adj1" fmla="val -57870"/>
                <a:gd name="adj2" fmla="val 3042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动手拼一拼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试一试吧！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组合 29"/>
          <p:cNvGrpSpPr/>
          <p:nvPr/>
        </p:nvGrpSpPr>
        <p:grpSpPr>
          <a:xfrm>
            <a:off x="4857840" y="3200400"/>
            <a:ext cx="4000320" cy="3011400"/>
            <a:chOff x="4857840" y="3200400"/>
            <a:chExt cx="4000320" cy="3011400"/>
          </a:xfrm>
        </p:grpSpPr>
        <p:grpSp>
          <p:nvGrpSpPr>
            <p:cNvPr id="1025" name="组合 6"/>
            <p:cNvGrpSpPr/>
            <p:nvPr/>
          </p:nvGrpSpPr>
          <p:grpSpPr>
            <a:xfrm>
              <a:off x="4857840" y="4405320"/>
              <a:ext cx="3997440" cy="938160"/>
              <a:chOff x="4857840" y="4405320"/>
              <a:chExt cx="3997440" cy="938160"/>
            </a:xfrm>
          </p:grpSpPr>
          <p:sp>
            <p:nvSpPr>
              <p:cNvPr id="1026" name="AutoShape 27"/>
              <p:cNvSpPr/>
              <p:nvPr/>
            </p:nvSpPr>
            <p:spPr>
              <a:xfrm>
                <a:off x="4857840" y="4405320"/>
                <a:ext cx="2857680" cy="857520"/>
              </a:xfrm>
              <a:prstGeom prst="wedgeRoundRectCallout">
                <a:avLst>
                  <a:gd name="adj1" fmla="val 58083"/>
                  <a:gd name="adj2" fmla="val 3522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钝角比直角大，用这个直角和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…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7" name="Picture 4" descr="E:\2017秋上·黄倩\其他\人\蜜蜂.gif蜜蜂"/>
              <p:cNvPicPr/>
              <p:nvPr/>
            </p:nvPicPr>
            <p:blipFill>
              <a:blip r:embed="rId13"/>
              <a:stretch/>
            </p:blipFill>
            <p:spPr>
              <a:xfrm>
                <a:off x="8004600" y="4405320"/>
                <a:ext cx="850680" cy="938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28" name="Picture 5" descr=""/>
            <p:cNvPicPr/>
            <p:nvPr/>
          </p:nvPicPr>
          <p:blipFill>
            <a:blip r:embed="rId14"/>
            <a:stretch/>
          </p:blipFill>
          <p:spPr>
            <a:xfrm>
              <a:off x="6501240" y="5414400"/>
              <a:ext cx="500040" cy="7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椭圆形标注 20"/>
            <p:cNvSpPr/>
            <p:nvPr/>
          </p:nvSpPr>
          <p:spPr>
            <a:xfrm>
              <a:off x="6929280" y="3200400"/>
              <a:ext cx="1928880" cy="1000440"/>
            </a:xfrm>
            <a:prstGeom prst="wedgeEllipseCallout">
              <a:avLst>
                <a:gd name="adj1" fmla="val 13370"/>
                <a:gd name="adj2" fmla="val 7234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0" name="Picture 5" descr=""/>
            <p:cNvPicPr/>
            <p:nvPr/>
          </p:nvPicPr>
          <p:blipFill>
            <a:blip r:embed="rId15"/>
            <a:stretch/>
          </p:blipFill>
          <p:spPr>
            <a:xfrm>
              <a:off x="7715880" y="3271680"/>
              <a:ext cx="500040" cy="7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直接连接符 23"/>
            <p:cNvSpPr/>
            <p:nvPr/>
          </p:nvSpPr>
          <p:spPr>
            <a:xfrm flipH="1">
              <a:off x="7714800" y="4057920"/>
              <a:ext cx="50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直接连接符 25"/>
            <p:cNvSpPr/>
            <p:nvPr/>
          </p:nvSpPr>
          <p:spPr>
            <a:xfrm flipH="1" flipV="1">
              <a:off x="7358040" y="3414600"/>
              <a:ext cx="357120" cy="64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TextBox 24"/>
          <p:cNvSpPr/>
          <p:nvPr/>
        </p:nvSpPr>
        <p:spPr>
          <a:xfrm>
            <a:off x="644400" y="68400"/>
            <a:ext cx="32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一、发展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八边形 30"/>
          <p:cNvSpPr/>
          <p:nvPr/>
        </p:nvSpPr>
        <p:spPr>
          <a:xfrm>
            <a:off x="241200" y="70812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5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36" name="圆角矩形 9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7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38" name="椭圆 16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9" name="椭圆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0" name="椭圆 1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1" name="椭圆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5" name="圆角矩形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6" name="圆角矩形 2"/>
          <p:cNvSpPr/>
          <p:nvPr/>
        </p:nvSpPr>
        <p:spPr>
          <a:xfrm>
            <a:off x="142920" y="698400"/>
            <a:ext cx="3143160" cy="714600"/>
          </a:xfrm>
          <a:prstGeom prst="roundRect">
            <a:avLst>
              <a:gd name="adj" fmla="val 16667"/>
            </a:avLst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拼出的是钝角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Picture 5" descr=""/>
          <p:cNvPicPr/>
          <p:nvPr/>
        </p:nvPicPr>
        <p:blipFill>
          <a:blip r:embed="rId8"/>
          <a:stretch/>
        </p:blipFill>
        <p:spPr>
          <a:xfrm>
            <a:off x="1619280" y="2565360"/>
            <a:ext cx="1530360" cy="18320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5" descr=""/>
          <p:cNvPicPr/>
          <p:nvPr/>
        </p:nvPicPr>
        <p:blipFill>
          <a:blip r:embed="rId9"/>
          <a:stretch/>
        </p:blipFill>
        <p:spPr>
          <a:xfrm>
            <a:off x="1692360" y="2565360"/>
            <a:ext cx="1442880" cy="1517760"/>
          </a:xfrm>
          <a:prstGeom prst="rect">
            <a:avLst/>
          </a:prstGeom>
          <a:ln w="0">
            <a:noFill/>
          </a:ln>
        </p:spPr>
      </p:pic>
      <p:pic>
        <p:nvPicPr>
          <p:cNvPr id="1049" name="组合 12" descr=""/>
          <p:cNvPicPr/>
          <p:nvPr/>
        </p:nvPicPr>
        <p:blipFill>
          <a:blip r:embed="rId10"/>
          <a:stretch/>
        </p:blipFill>
        <p:spPr>
          <a:xfrm>
            <a:off x="1782720" y="4468680"/>
            <a:ext cx="1596960" cy="1766880"/>
          </a:xfrm>
          <a:prstGeom prst="rect">
            <a:avLst/>
          </a:prstGeom>
          <a:ln w="0">
            <a:noFill/>
          </a:ln>
        </p:spPr>
      </p:pic>
      <p:sp>
        <p:nvSpPr>
          <p:cNvPr id="1050" name="圆角矩形 13"/>
          <p:cNvSpPr/>
          <p:nvPr/>
        </p:nvSpPr>
        <p:spPr>
          <a:xfrm>
            <a:off x="1619280" y="2374920"/>
            <a:ext cx="1962000" cy="3919680"/>
          </a:xfrm>
          <a:custGeom>
            <a:avLst/>
            <a:gdLst>
              <a:gd name="textAreaLeft" fmla="*/ 95760 w 1962000"/>
              <a:gd name="textAreaRight" fmla="*/ 1866240 w 1962000"/>
              <a:gd name="textAreaTop" fmla="*/ 95760 h 3919680"/>
              <a:gd name="textAreaBottom" fmla="*/ 3823920 h 3919680"/>
            </a:gdLst>
            <a:ahLst/>
            <a:rect l="textAreaLeft" t="textAreaTop" r="textAreaRight" b="textAreaBottom"/>
            <a:pathLst>
              <a:path w="21600" h="43148">
                <a:moveTo>
                  <a:pt x="3600" y="0"/>
                </a:moveTo>
                <a:arcTo wR="3600" hR="3600" stAng="16200000" swAng="-5400000"/>
                <a:lnTo>
                  <a:pt x="0" y="39548"/>
                </a:lnTo>
                <a:arcTo wR="3600" hR="3600" stAng="10800000" swAng="-5400000"/>
                <a:lnTo>
                  <a:pt x="18000" y="431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直接连接符 15"/>
          <p:cNvSpPr/>
          <p:nvPr/>
        </p:nvSpPr>
        <p:spPr>
          <a:xfrm flipV="1">
            <a:off x="2050920" y="2565360"/>
            <a:ext cx="324000" cy="496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25"/>
          <p:cNvSpPr/>
          <p:nvPr/>
        </p:nvSpPr>
        <p:spPr>
          <a:xfrm flipV="1">
            <a:off x="1928880" y="4500720"/>
            <a:ext cx="642960" cy="428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直接连接符 30"/>
          <p:cNvSpPr/>
          <p:nvPr/>
        </p:nvSpPr>
        <p:spPr>
          <a:xfrm flipH="1" flipV="1">
            <a:off x="2571840" y="4500720"/>
            <a:ext cx="357120" cy="785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6"/>
          <p:cNvGrpSpPr/>
          <p:nvPr/>
        </p:nvGrpSpPr>
        <p:grpSpPr>
          <a:xfrm>
            <a:off x="4857840" y="501480"/>
            <a:ext cx="3997080" cy="938520"/>
            <a:chOff x="4857840" y="501480"/>
            <a:chExt cx="3997080" cy="938520"/>
          </a:xfrm>
        </p:grpSpPr>
        <p:sp>
          <p:nvSpPr>
            <p:cNvPr id="1055" name="AutoShape 27"/>
            <p:cNvSpPr/>
            <p:nvPr/>
          </p:nvSpPr>
          <p:spPr>
            <a:xfrm>
              <a:off x="4857840" y="501480"/>
              <a:ext cx="2857320" cy="857520"/>
            </a:xfrm>
            <a:prstGeom prst="wedgeRoundRectCallout">
              <a:avLst>
                <a:gd name="adj1" fmla="val 58083"/>
                <a:gd name="adj2" fmla="val 35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用直角和钝角拼出的肯定是钝角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6" name="Picture 4" descr="E:\2017秋上·黄倩\其他\人\蜜蜂.gif蜜蜂"/>
            <p:cNvPicPr/>
            <p:nvPr/>
          </p:nvPicPr>
          <p:blipFill>
            <a:blip r:embed="rId11"/>
            <a:stretch/>
          </p:blipFill>
          <p:spPr>
            <a:xfrm>
              <a:off x="8003520" y="501480"/>
              <a:ext cx="851400" cy="93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7" name="组合 9"/>
          <p:cNvGrpSpPr/>
          <p:nvPr/>
        </p:nvGrpSpPr>
        <p:grpSpPr>
          <a:xfrm>
            <a:off x="271440" y="1469880"/>
            <a:ext cx="3227400" cy="839880"/>
            <a:chOff x="271440" y="1469880"/>
            <a:chExt cx="3227400" cy="839880"/>
          </a:xfrm>
        </p:grpSpPr>
        <p:pic>
          <p:nvPicPr>
            <p:cNvPr id="1058" name="Picture 2" descr="E:\2017秋上·黄倩\其他\人\海豚.jpg海豚"/>
            <p:cNvPicPr/>
            <p:nvPr/>
          </p:nvPicPr>
          <p:blipFill>
            <a:blip r:embed="rId12"/>
            <a:stretch/>
          </p:blipFill>
          <p:spPr>
            <a:xfrm>
              <a:off x="271440" y="1550160"/>
              <a:ext cx="642600" cy="7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AutoShape 27"/>
            <p:cNvSpPr/>
            <p:nvPr/>
          </p:nvSpPr>
          <p:spPr>
            <a:xfrm>
              <a:off x="1146960" y="1469880"/>
              <a:ext cx="2351880" cy="839880"/>
            </a:xfrm>
            <a:prstGeom prst="wedgeRoundRectCallout">
              <a:avLst>
                <a:gd name="adj1" fmla="val -57870"/>
                <a:gd name="adj2" fmla="val 3042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可以用三角尺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的直角比一比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圆角矩形 46"/>
          <p:cNvSpPr/>
          <p:nvPr/>
        </p:nvSpPr>
        <p:spPr>
          <a:xfrm>
            <a:off x="5500800" y="1479600"/>
            <a:ext cx="1896840" cy="4695840"/>
          </a:xfrm>
          <a:custGeom>
            <a:avLst/>
            <a:gdLst>
              <a:gd name="textAreaLeft" fmla="*/ 92520 w 1896840"/>
              <a:gd name="textAreaRight" fmla="*/ 1804320 w 1896840"/>
              <a:gd name="textAreaTop" fmla="*/ 92520 h 4695840"/>
              <a:gd name="textAreaBottom" fmla="*/ 4603320 h 4695840"/>
            </a:gdLst>
            <a:ahLst/>
            <a:rect l="textAreaLeft" t="textAreaTop" r="textAreaRight" b="textAreaBottom"/>
            <a:pathLst>
              <a:path w="21600" h="53467">
                <a:moveTo>
                  <a:pt x="3600" y="0"/>
                </a:moveTo>
                <a:arcTo wR="3600" hR="3600" stAng="16200000" swAng="-5400000"/>
                <a:lnTo>
                  <a:pt x="0" y="49867"/>
                </a:lnTo>
                <a:arcTo wR="3600" hR="3600" stAng="10800000" swAng="-5400000"/>
                <a:lnTo>
                  <a:pt x="18000" y="534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组合 53" descr=""/>
          <p:cNvPicPr/>
          <p:nvPr/>
        </p:nvPicPr>
        <p:blipFill>
          <a:blip r:embed="rId13"/>
          <a:stretch/>
        </p:blipFill>
        <p:spPr>
          <a:xfrm>
            <a:off x="5645160" y="1550880"/>
            <a:ext cx="1482840" cy="15433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5" descr=""/>
          <p:cNvPicPr/>
          <p:nvPr/>
        </p:nvPicPr>
        <p:blipFill>
          <a:blip r:embed="rId14"/>
          <a:stretch/>
        </p:blipFill>
        <p:spPr>
          <a:xfrm>
            <a:off x="5715000" y="3429000"/>
            <a:ext cx="741240" cy="13190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5" descr=""/>
          <p:cNvPicPr/>
          <p:nvPr/>
        </p:nvPicPr>
        <p:blipFill>
          <a:blip r:embed="rId15"/>
          <a:stretch/>
        </p:blipFill>
        <p:spPr>
          <a:xfrm>
            <a:off x="6391440" y="3895560"/>
            <a:ext cx="676080" cy="857520"/>
          </a:xfrm>
          <a:prstGeom prst="rect">
            <a:avLst/>
          </a:prstGeom>
          <a:ln w="0">
            <a:noFill/>
          </a:ln>
        </p:spPr>
      </p:pic>
      <p:sp>
        <p:nvSpPr>
          <p:cNvPr id="1064" name="直接连接符 56"/>
          <p:cNvSpPr/>
          <p:nvPr/>
        </p:nvSpPr>
        <p:spPr>
          <a:xfrm>
            <a:off x="6087960" y="4103640"/>
            <a:ext cx="285840" cy="642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直接连接符 60"/>
          <p:cNvSpPr/>
          <p:nvPr/>
        </p:nvSpPr>
        <p:spPr>
          <a:xfrm flipV="1">
            <a:off x="6357960" y="4724280"/>
            <a:ext cx="519120" cy="6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直接连接符 66"/>
          <p:cNvSpPr/>
          <p:nvPr/>
        </p:nvSpPr>
        <p:spPr>
          <a:xfrm>
            <a:off x="5969160" y="2568600"/>
            <a:ext cx="350640" cy="504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直接连接符 68"/>
          <p:cNvSpPr/>
          <p:nvPr/>
        </p:nvSpPr>
        <p:spPr>
          <a:xfrm>
            <a:off x="6319800" y="3071880"/>
            <a:ext cx="642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Picture 5" descr=""/>
          <p:cNvPicPr/>
          <p:nvPr/>
        </p:nvPicPr>
        <p:blipFill>
          <a:blip r:embed="rId16"/>
          <a:stretch/>
        </p:blipFill>
        <p:spPr>
          <a:xfrm>
            <a:off x="5715000" y="5133960"/>
            <a:ext cx="658800" cy="9381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5" descr=""/>
          <p:cNvPicPr/>
          <p:nvPr/>
        </p:nvPicPr>
        <p:blipFill>
          <a:blip r:embed="rId17"/>
          <a:stretch/>
        </p:blipFill>
        <p:spPr>
          <a:xfrm>
            <a:off x="6357960" y="5214960"/>
            <a:ext cx="1071720" cy="819000"/>
          </a:xfrm>
          <a:prstGeom prst="rect">
            <a:avLst/>
          </a:prstGeom>
          <a:ln w="0">
            <a:noFill/>
          </a:ln>
        </p:spPr>
      </p:pic>
      <p:sp>
        <p:nvSpPr>
          <p:cNvPr id="1070" name="直接连接符 74"/>
          <p:cNvSpPr/>
          <p:nvPr/>
        </p:nvSpPr>
        <p:spPr>
          <a:xfrm flipV="1">
            <a:off x="5715000" y="6009840"/>
            <a:ext cx="642960" cy="7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直接连接符 80"/>
          <p:cNvSpPr/>
          <p:nvPr/>
        </p:nvSpPr>
        <p:spPr>
          <a:xfrm flipV="1">
            <a:off x="6357960" y="5589720"/>
            <a:ext cx="571320" cy="428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直接连接符 34"/>
          <p:cNvSpPr/>
          <p:nvPr/>
        </p:nvSpPr>
        <p:spPr>
          <a:xfrm flipH="1" flipV="1">
            <a:off x="2364840" y="2565360"/>
            <a:ext cx="50508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3" name="组合 2"/>
          <p:cNvGrpSpPr/>
          <p:nvPr/>
        </p:nvGrpSpPr>
        <p:grpSpPr>
          <a:xfrm>
            <a:off x="-50760" y="87480"/>
            <a:ext cx="3206880" cy="527040"/>
            <a:chOff x="-50760" y="87480"/>
            <a:chExt cx="3206880" cy="527040"/>
          </a:xfrm>
        </p:grpSpPr>
        <p:pic>
          <p:nvPicPr>
            <p:cNvPr id="1074" name="圆角矩形 8" descr=""/>
            <p:cNvPicPr/>
            <p:nvPr/>
          </p:nvPicPr>
          <p:blipFill>
            <a:blip r:embed="rId1"/>
            <a:stretch/>
          </p:blipFill>
          <p:spPr>
            <a:xfrm>
              <a:off x="97560" y="87480"/>
              <a:ext cx="30585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5" name="组合 4"/>
            <p:cNvGrpSpPr/>
            <p:nvPr/>
          </p:nvGrpSpPr>
          <p:grpSpPr>
            <a:xfrm>
              <a:off x="-50760" y="182520"/>
              <a:ext cx="424800" cy="274320"/>
              <a:chOff x="-50760" y="182520"/>
              <a:chExt cx="424800" cy="274320"/>
            </a:xfrm>
          </p:grpSpPr>
          <p:sp>
            <p:nvSpPr>
              <p:cNvPr id="1076" name="椭圆 16"/>
              <p:cNvSpPr/>
              <p:nvPr/>
            </p:nvSpPr>
            <p:spPr>
              <a:xfrm rot="16200000">
                <a:off x="191520" y="3474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7" name="椭圆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163080" y="311760"/>
                <a:ext cx="210960" cy="1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椭圆 19"/>
              <p:cNvSpPr/>
              <p:nvPr/>
            </p:nvSpPr>
            <p:spPr>
              <a:xfrm rot="16200000">
                <a:off x="191520" y="2203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椭圆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3080" y="197280"/>
                <a:ext cx="210960" cy="11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0" name="圆角矩形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28320"/>
                <a:ext cx="35136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1" name="圆角矩形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9520"/>
                <a:ext cx="35136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2" name="圆角矩形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0960"/>
                <a:ext cx="35136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3" name="圆角矩形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51360" cy="101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4" name="矩形 5"/>
          <p:cNvSpPr/>
          <p:nvPr/>
        </p:nvSpPr>
        <p:spPr>
          <a:xfrm>
            <a:off x="642960" y="2187720"/>
            <a:ext cx="7643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从两副三角尺中选出两个，拼出锐角、直角和钝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6"/>
          <p:cNvSpPr/>
          <p:nvPr/>
        </p:nvSpPr>
        <p:spPr>
          <a:xfrm>
            <a:off x="3865680" y="2879640"/>
            <a:ext cx="1357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Calibri"/>
                <a:ea typeface="宋体"/>
              </a:rPr>
              <a:t>答案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8"/>
          <p:cNvSpPr/>
          <p:nvPr/>
        </p:nvSpPr>
        <p:spPr>
          <a:xfrm>
            <a:off x="573120" y="90360"/>
            <a:ext cx="262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二、巩固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4" descr="D:\我的文档-桌面-收藏夹\桌面\6d47b6d97d5d48e957d328f745_560副本.png"/>
          <p:cNvPicPr/>
          <p:nvPr/>
        </p:nvPicPr>
        <p:blipFill>
          <a:blip r:embed="rId1"/>
          <a:stretch/>
        </p:blipFill>
        <p:spPr>
          <a:xfrm>
            <a:off x="5286240" y="1289160"/>
            <a:ext cx="2571840" cy="19969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2" descr="D:\我的文档-桌面-收藏夹\桌面\item-5208EDC9-B5E36A4C0000000004010000314922D9_0_300x300.jpg"/>
          <p:cNvPicPr/>
          <p:nvPr/>
        </p:nvPicPr>
        <p:blipFill>
          <a:blip r:embed="rId2"/>
          <a:srcRect l="25806" t="16130" r="25806" b="16130"/>
          <a:stretch/>
        </p:blipFill>
        <p:spPr>
          <a:xfrm>
            <a:off x="2143080" y="857160"/>
            <a:ext cx="1285920" cy="1800360"/>
          </a:xfrm>
          <a:prstGeom prst="rect">
            <a:avLst/>
          </a:prstGeom>
          <a:ln w="0">
            <a:noFill/>
          </a:ln>
        </p:spPr>
      </p:pic>
      <p:sp>
        <p:nvSpPr>
          <p:cNvPr id="1089" name="直接连接符 6"/>
          <p:cNvSpPr/>
          <p:nvPr/>
        </p:nvSpPr>
        <p:spPr>
          <a:xfrm>
            <a:off x="2143080" y="1699560"/>
            <a:ext cx="0" cy="957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直接连接符 8"/>
          <p:cNvSpPr/>
          <p:nvPr/>
        </p:nvSpPr>
        <p:spPr>
          <a:xfrm flipH="1" flipV="1">
            <a:off x="2143080" y="2657520"/>
            <a:ext cx="642960" cy="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直接连接符 12"/>
          <p:cNvSpPr/>
          <p:nvPr/>
        </p:nvSpPr>
        <p:spPr>
          <a:xfrm flipH="1">
            <a:off x="5857560" y="2217600"/>
            <a:ext cx="857160" cy="885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直接连接符 14"/>
          <p:cNvSpPr/>
          <p:nvPr/>
        </p:nvSpPr>
        <p:spPr>
          <a:xfrm flipH="1">
            <a:off x="5857920" y="3103560"/>
            <a:ext cx="1071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Picture 5" descr="D:\我的文档-桌面-收藏夹\桌面\10943274_162451645192_2.jpg"/>
          <p:cNvPicPr/>
          <p:nvPr/>
        </p:nvPicPr>
        <p:blipFill>
          <a:blip r:embed="rId3"/>
          <a:stretch/>
        </p:blipFill>
        <p:spPr>
          <a:xfrm>
            <a:off x="2286000" y="4429080"/>
            <a:ext cx="4857840" cy="1128600"/>
          </a:xfrm>
          <a:prstGeom prst="rect">
            <a:avLst/>
          </a:prstGeom>
          <a:ln w="0">
            <a:noFill/>
          </a:ln>
        </p:spPr>
      </p:pic>
      <p:sp>
        <p:nvSpPr>
          <p:cNvPr id="1094" name="直接连接符 17"/>
          <p:cNvSpPr/>
          <p:nvPr/>
        </p:nvSpPr>
        <p:spPr>
          <a:xfrm>
            <a:off x="2286000" y="4557600"/>
            <a:ext cx="0" cy="100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直接连接符 18"/>
          <p:cNvSpPr/>
          <p:nvPr/>
        </p:nvSpPr>
        <p:spPr>
          <a:xfrm flipH="1">
            <a:off x="2286000" y="5557680"/>
            <a:ext cx="642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97" name="圆角矩形 1" descr=""/>
            <p:cNvPicPr/>
            <p:nvPr/>
          </p:nvPicPr>
          <p:blipFill>
            <a:blip r:embed="rId4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8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99" name="椭圆 16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0" name="椭圆 2" descr=""/>
              <p:cNvPicPr/>
              <p:nvPr/>
            </p:nvPicPr>
            <p:blipFill>
              <a:blip r:embed="rId5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1" name="椭圆 1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2" name="椭圆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23" descr=""/>
              <p:cNvPicPr/>
              <p:nvPr/>
            </p:nvPicPr>
            <p:blipFill>
              <a:blip r:embed="rId9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24" descr=""/>
              <p:cNvPicPr/>
              <p:nvPr/>
            </p:nvPicPr>
            <p:blipFill>
              <a:blip r:embed="rId10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9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90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矩形 3"/>
          <p:cNvSpPr/>
          <p:nvPr/>
        </p:nvSpPr>
        <p:spPr>
          <a:xfrm>
            <a:off x="1594800" y="1001880"/>
            <a:ext cx="38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看下面各图，分别有几个角？各是什么角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等腰三角形 4"/>
          <p:cNvSpPr/>
          <p:nvPr/>
        </p:nvSpPr>
        <p:spPr>
          <a:xfrm>
            <a:off x="1428840" y="2206800"/>
            <a:ext cx="2000160" cy="1643040"/>
          </a:xfrm>
          <a:prstGeom prst="triangle">
            <a:avLst>
              <a:gd name="adj" fmla="val 7856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梯形 5"/>
          <p:cNvSpPr/>
          <p:nvPr/>
        </p:nvSpPr>
        <p:spPr>
          <a:xfrm flipV="1">
            <a:off x="5425920" y="2706120"/>
            <a:ext cx="2571840" cy="928440"/>
          </a:xfrm>
          <a:custGeom>
            <a:avLst/>
            <a:gdLst/>
            <a:ahLst/>
            <a:rect l="l" t="t" r="r" b="b"/>
            <a:pathLst>
              <a:path w="2571750" h="928687">
                <a:moveTo>
                  <a:pt x="0" y="928687"/>
                </a:moveTo>
                <a:lnTo>
                  <a:pt x="455056" y="0"/>
                </a:lnTo>
                <a:lnTo>
                  <a:pt x="2116693" y="0"/>
                </a:lnTo>
                <a:lnTo>
                  <a:pt x="2571750" y="92868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组合 22"/>
          <p:cNvGrpSpPr/>
          <p:nvPr/>
        </p:nvGrpSpPr>
        <p:grpSpPr>
          <a:xfrm>
            <a:off x="1213920" y="3357720"/>
            <a:ext cx="996840" cy="714960"/>
            <a:chOff x="1213920" y="3357720"/>
            <a:chExt cx="996840" cy="714960"/>
          </a:xfrm>
        </p:grpSpPr>
        <p:sp>
          <p:nvSpPr>
            <p:cNvPr id="1111" name="弧形 6"/>
            <p:cNvSpPr/>
            <p:nvPr/>
          </p:nvSpPr>
          <p:spPr>
            <a:xfrm rot="2347200">
              <a:off x="1290240" y="3490920"/>
              <a:ext cx="579600" cy="449280"/>
            </a:xfrm>
            <a:custGeom>
              <a:avLst/>
              <a:gdLst/>
              <a:ahLst/>
              <a:rect l="l" t="t" r="r" b="b"/>
              <a:pathLst>
                <a:path stroke="0" w="579328" h="449008">
                  <a:moveTo>
                    <a:pt x="289663" y="0"/>
                  </a:moveTo>
                  <a:cubicBezTo>
                    <a:pt x="423401" y="0"/>
                    <a:pt x="535971" y="70246"/>
                    <a:pt x="569280" y="165673"/>
                  </a:cubicBezTo>
                  <a:lnTo>
                    <a:pt x="289664" y="224504"/>
                  </a:lnTo>
                  <a:close/>
                </a:path>
                <a:path fill="none" w="579328" h="449008">
                  <a:moveTo>
                    <a:pt x="289663" y="0"/>
                  </a:moveTo>
                  <a:cubicBezTo>
                    <a:pt x="423401" y="0"/>
                    <a:pt x="535971" y="70246"/>
                    <a:pt x="569280" y="16567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15"/>
            <p:cNvSpPr/>
            <p:nvPr/>
          </p:nvSpPr>
          <p:spPr>
            <a:xfrm>
              <a:off x="1848600" y="3357720"/>
              <a:ext cx="36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组合 23"/>
          <p:cNvGrpSpPr/>
          <p:nvPr/>
        </p:nvGrpSpPr>
        <p:grpSpPr>
          <a:xfrm>
            <a:off x="2651760" y="1992600"/>
            <a:ext cx="692640" cy="974520"/>
            <a:chOff x="2651760" y="1992600"/>
            <a:chExt cx="692640" cy="974520"/>
          </a:xfrm>
        </p:grpSpPr>
        <p:sp>
          <p:nvSpPr>
            <p:cNvPr id="1114" name="弧形 8"/>
            <p:cNvSpPr/>
            <p:nvPr/>
          </p:nvSpPr>
          <p:spPr>
            <a:xfrm rot="9685200">
              <a:off x="2708280" y="2073240"/>
              <a:ext cx="579600" cy="449280"/>
            </a:xfrm>
            <a:custGeom>
              <a:avLst/>
              <a:gdLst/>
              <a:ahLst/>
              <a:rect l="l" t="t" r="r" b="b"/>
              <a:pathLst>
                <a:path stroke="0" w="580016" h="449015">
                  <a:moveTo>
                    <a:pt x="290007" y="0"/>
                  </a:moveTo>
                  <a:cubicBezTo>
                    <a:pt x="423874" y="0"/>
                    <a:pt x="536557" y="70215"/>
                    <a:pt x="569933" y="165611"/>
                  </a:cubicBezTo>
                  <a:lnTo>
                    <a:pt x="290008" y="224507"/>
                  </a:lnTo>
                  <a:close/>
                </a:path>
                <a:path fill="none" w="580016" h="449015">
                  <a:moveTo>
                    <a:pt x="290007" y="0"/>
                  </a:moveTo>
                  <a:cubicBezTo>
                    <a:pt x="423874" y="0"/>
                    <a:pt x="536557" y="70215"/>
                    <a:pt x="569933" y="1656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16"/>
            <p:cNvSpPr/>
            <p:nvPr/>
          </p:nvSpPr>
          <p:spPr>
            <a:xfrm>
              <a:off x="2713680" y="2492280"/>
              <a:ext cx="36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组合 24"/>
          <p:cNvGrpSpPr/>
          <p:nvPr/>
        </p:nvGrpSpPr>
        <p:grpSpPr>
          <a:xfrm>
            <a:off x="2849040" y="3278160"/>
            <a:ext cx="771840" cy="887040"/>
            <a:chOff x="2849040" y="3278160"/>
            <a:chExt cx="771840" cy="887040"/>
          </a:xfrm>
        </p:grpSpPr>
        <p:sp>
          <p:nvSpPr>
            <p:cNvPr id="1117" name="弧形 9"/>
            <p:cNvSpPr/>
            <p:nvPr/>
          </p:nvSpPr>
          <p:spPr>
            <a:xfrm rot="16367400">
              <a:off x="3092400" y="3639960"/>
              <a:ext cx="579600" cy="449280"/>
            </a:xfrm>
            <a:custGeom>
              <a:avLst/>
              <a:gdLst/>
              <a:ahLst/>
              <a:rect l="l" t="t" r="r" b="b"/>
              <a:pathLst>
                <a:path stroke="0" w="579496" h="449277">
                  <a:moveTo>
                    <a:pt x="289747" y="0"/>
                  </a:moveTo>
                  <a:cubicBezTo>
                    <a:pt x="423532" y="0"/>
                    <a:pt x="536139" y="70296"/>
                    <a:pt x="569450" y="165788"/>
                  </a:cubicBezTo>
                  <a:lnTo>
                    <a:pt x="289748" y="224638"/>
                  </a:lnTo>
                  <a:close/>
                </a:path>
                <a:path fill="none" w="579496" h="449277">
                  <a:moveTo>
                    <a:pt x="289747" y="0"/>
                  </a:moveTo>
                  <a:cubicBezTo>
                    <a:pt x="423532" y="0"/>
                    <a:pt x="536139" y="70296"/>
                    <a:pt x="569450" y="16578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17"/>
            <p:cNvSpPr/>
            <p:nvPr/>
          </p:nvSpPr>
          <p:spPr>
            <a:xfrm>
              <a:off x="2849040" y="3278160"/>
              <a:ext cx="36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组合 28"/>
          <p:cNvGrpSpPr/>
          <p:nvPr/>
        </p:nvGrpSpPr>
        <p:grpSpPr>
          <a:xfrm>
            <a:off x="7283520" y="2611800"/>
            <a:ext cx="922680" cy="554040"/>
            <a:chOff x="7283520" y="2611800"/>
            <a:chExt cx="922680" cy="554040"/>
          </a:xfrm>
        </p:grpSpPr>
        <p:sp>
          <p:nvSpPr>
            <p:cNvPr id="1120" name="弧形 13"/>
            <p:cNvSpPr/>
            <p:nvPr/>
          </p:nvSpPr>
          <p:spPr>
            <a:xfrm rot="12255000">
              <a:off x="7628400" y="2702880"/>
              <a:ext cx="524520" cy="371520"/>
            </a:xfrm>
            <a:custGeom>
              <a:avLst/>
              <a:gdLst/>
              <a:ahLst/>
              <a:rect l="l" t="t" r="r" b="b"/>
              <a:pathLst>
                <a:path stroke="0" w="525346" h="388131">
                  <a:moveTo>
                    <a:pt x="262672" y="0"/>
                  </a:moveTo>
                  <a:cubicBezTo>
                    <a:pt x="407742" y="0"/>
                    <a:pt x="525345" y="86886"/>
                    <a:pt x="525345" y="194065"/>
                  </a:cubicBezTo>
                  <a:cubicBezTo>
                    <a:pt x="525345" y="226278"/>
                    <a:pt x="514722" y="256658"/>
                    <a:pt x="495933" y="283382"/>
                  </a:cubicBezTo>
                  <a:lnTo>
                    <a:pt x="262673" y="194065"/>
                  </a:lnTo>
                  <a:close/>
                </a:path>
                <a:path fill="none" w="525346" h="388131">
                  <a:moveTo>
                    <a:pt x="262672" y="0"/>
                  </a:moveTo>
                  <a:cubicBezTo>
                    <a:pt x="407742" y="0"/>
                    <a:pt x="525345" y="86886"/>
                    <a:pt x="525345" y="194065"/>
                  </a:cubicBezTo>
                  <a:cubicBezTo>
                    <a:pt x="525345" y="226278"/>
                    <a:pt x="514722" y="256658"/>
                    <a:pt x="495933" y="28338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矩形 18"/>
            <p:cNvSpPr/>
            <p:nvPr/>
          </p:nvSpPr>
          <p:spPr>
            <a:xfrm>
              <a:off x="7283520" y="2655720"/>
              <a:ext cx="344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组合 25"/>
          <p:cNvGrpSpPr/>
          <p:nvPr/>
        </p:nvGrpSpPr>
        <p:grpSpPr>
          <a:xfrm>
            <a:off x="7072200" y="3135240"/>
            <a:ext cx="775080" cy="878400"/>
            <a:chOff x="7072200" y="3135240"/>
            <a:chExt cx="775080" cy="878400"/>
          </a:xfrm>
        </p:grpSpPr>
        <p:sp>
          <p:nvSpPr>
            <p:cNvPr id="1123" name="弧形 12"/>
            <p:cNvSpPr/>
            <p:nvPr/>
          </p:nvSpPr>
          <p:spPr>
            <a:xfrm rot="16942800">
              <a:off x="7273800" y="3455640"/>
              <a:ext cx="581040" cy="451080"/>
            </a:xfrm>
            <a:custGeom>
              <a:avLst/>
              <a:gdLst/>
              <a:ahLst/>
              <a:rect l="l" t="t" r="r" b="b"/>
              <a:pathLst>
                <a:path stroke="0" w="580470" h="450312">
                  <a:moveTo>
                    <a:pt x="290234" y="0"/>
                  </a:moveTo>
                  <a:cubicBezTo>
                    <a:pt x="450526" y="0"/>
                    <a:pt x="580469" y="100806"/>
                    <a:pt x="580469" y="225156"/>
                  </a:cubicBezTo>
                  <a:cubicBezTo>
                    <a:pt x="580469" y="236805"/>
                    <a:pt x="579329" y="248247"/>
                    <a:pt x="577144" y="259348"/>
                  </a:cubicBezTo>
                  <a:lnTo>
                    <a:pt x="290235" y="225156"/>
                  </a:lnTo>
                  <a:close/>
                </a:path>
                <a:path fill="none" w="580470" h="450312">
                  <a:moveTo>
                    <a:pt x="290234" y="0"/>
                  </a:moveTo>
                  <a:cubicBezTo>
                    <a:pt x="450526" y="0"/>
                    <a:pt x="580469" y="100806"/>
                    <a:pt x="580469" y="225156"/>
                  </a:cubicBezTo>
                  <a:cubicBezTo>
                    <a:pt x="580469" y="236805"/>
                    <a:pt x="579329" y="248247"/>
                    <a:pt x="577144" y="25934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矩形 19"/>
            <p:cNvSpPr/>
            <p:nvPr/>
          </p:nvSpPr>
          <p:spPr>
            <a:xfrm>
              <a:off x="7072200" y="3135240"/>
              <a:ext cx="36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组合 26"/>
          <p:cNvGrpSpPr/>
          <p:nvPr/>
        </p:nvGrpSpPr>
        <p:grpSpPr>
          <a:xfrm>
            <a:off x="5567400" y="3159000"/>
            <a:ext cx="867240" cy="850680"/>
            <a:chOff x="5567400" y="3159000"/>
            <a:chExt cx="867240" cy="850680"/>
          </a:xfrm>
        </p:grpSpPr>
        <p:sp>
          <p:nvSpPr>
            <p:cNvPr id="1126" name="弧形 11"/>
            <p:cNvSpPr/>
            <p:nvPr/>
          </p:nvSpPr>
          <p:spPr>
            <a:xfrm flipV="1" rot="15829800">
              <a:off x="5529600" y="3441600"/>
              <a:ext cx="613080" cy="474840"/>
            </a:xfrm>
            <a:custGeom>
              <a:avLst/>
              <a:gdLst/>
              <a:ahLst/>
              <a:rect l="l" t="t" r="r" b="b"/>
              <a:pathLst>
                <a:path stroke="0" w="612822" h="473872">
                  <a:moveTo>
                    <a:pt x="306410" y="0"/>
                  </a:moveTo>
                  <a:cubicBezTo>
                    <a:pt x="475636" y="0"/>
                    <a:pt x="612821" y="106080"/>
                    <a:pt x="612821" y="236936"/>
                  </a:cubicBezTo>
                  <a:cubicBezTo>
                    <a:pt x="612821" y="249234"/>
                    <a:pt x="611609" y="261313"/>
                    <a:pt x="609288" y="273031"/>
                  </a:cubicBezTo>
                  <a:lnTo>
                    <a:pt x="306411" y="236936"/>
                  </a:lnTo>
                  <a:close/>
                </a:path>
                <a:path fill="none" w="612822" h="473872">
                  <a:moveTo>
                    <a:pt x="306410" y="0"/>
                  </a:moveTo>
                  <a:cubicBezTo>
                    <a:pt x="475636" y="0"/>
                    <a:pt x="612821" y="106080"/>
                    <a:pt x="612821" y="236936"/>
                  </a:cubicBezTo>
                  <a:cubicBezTo>
                    <a:pt x="612821" y="249234"/>
                    <a:pt x="611609" y="261313"/>
                    <a:pt x="609288" y="27303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20"/>
            <p:cNvSpPr/>
            <p:nvPr/>
          </p:nvSpPr>
          <p:spPr>
            <a:xfrm>
              <a:off x="6072480" y="3159000"/>
              <a:ext cx="36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组合 27"/>
          <p:cNvGrpSpPr/>
          <p:nvPr/>
        </p:nvGrpSpPr>
        <p:grpSpPr>
          <a:xfrm>
            <a:off x="5354280" y="2492280"/>
            <a:ext cx="782640" cy="640080"/>
            <a:chOff x="5354280" y="2492280"/>
            <a:chExt cx="782640" cy="640080"/>
          </a:xfrm>
        </p:grpSpPr>
        <p:sp>
          <p:nvSpPr>
            <p:cNvPr id="1129" name="弧形 14"/>
            <p:cNvSpPr/>
            <p:nvPr/>
          </p:nvSpPr>
          <p:spPr>
            <a:xfrm flipH="1" rot="10642800">
              <a:off x="5366880" y="2501640"/>
              <a:ext cx="441360" cy="587520"/>
            </a:xfrm>
            <a:custGeom>
              <a:avLst/>
              <a:gdLst/>
              <a:ahLst/>
              <a:rect l="l" t="t" r="r" b="b"/>
              <a:pathLst>
                <a:path stroke="0" w="441322" h="587152">
                  <a:moveTo>
                    <a:pt x="220660" y="0"/>
                  </a:moveTo>
                  <a:cubicBezTo>
                    <a:pt x="342528" y="0"/>
                    <a:pt x="441321" y="131438"/>
                    <a:pt x="441321" y="293576"/>
                  </a:cubicBezTo>
                  <a:cubicBezTo>
                    <a:pt x="441321" y="321790"/>
                    <a:pt x="438329" y="349075"/>
                    <a:pt x="432761" y="374829"/>
                  </a:cubicBezTo>
                  <a:lnTo>
                    <a:pt x="220661" y="293576"/>
                  </a:lnTo>
                  <a:close/>
                </a:path>
                <a:path fill="none" w="441322" h="587152">
                  <a:moveTo>
                    <a:pt x="220660" y="0"/>
                  </a:moveTo>
                  <a:cubicBezTo>
                    <a:pt x="342528" y="0"/>
                    <a:pt x="441321" y="131438"/>
                    <a:pt x="441321" y="293576"/>
                  </a:cubicBezTo>
                  <a:cubicBezTo>
                    <a:pt x="441321" y="321790"/>
                    <a:pt x="438329" y="349075"/>
                    <a:pt x="432761" y="37482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21"/>
            <p:cNvSpPr/>
            <p:nvPr/>
          </p:nvSpPr>
          <p:spPr>
            <a:xfrm>
              <a:off x="5774760" y="2657520"/>
              <a:ext cx="36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矩形 29"/>
          <p:cNvSpPr/>
          <p:nvPr/>
        </p:nvSpPr>
        <p:spPr>
          <a:xfrm>
            <a:off x="5664240" y="364500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钝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30"/>
          <p:cNvSpPr/>
          <p:nvPr/>
        </p:nvSpPr>
        <p:spPr>
          <a:xfrm>
            <a:off x="774720" y="314496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锐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矩形 31"/>
          <p:cNvSpPr/>
          <p:nvPr/>
        </p:nvSpPr>
        <p:spPr>
          <a:xfrm>
            <a:off x="3274920" y="185904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锐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32"/>
          <p:cNvSpPr/>
          <p:nvPr/>
        </p:nvSpPr>
        <p:spPr>
          <a:xfrm>
            <a:off x="3632040" y="350208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锐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33"/>
          <p:cNvSpPr/>
          <p:nvPr/>
        </p:nvSpPr>
        <p:spPr>
          <a:xfrm>
            <a:off x="7346880" y="364500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钝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矩形 34"/>
          <p:cNvSpPr/>
          <p:nvPr/>
        </p:nvSpPr>
        <p:spPr>
          <a:xfrm>
            <a:off x="5132520" y="214488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锐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矩形 35"/>
          <p:cNvSpPr/>
          <p:nvPr/>
        </p:nvSpPr>
        <p:spPr>
          <a:xfrm>
            <a:off x="7632720" y="214488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锐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139" name="圆角矩形 26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141" name="椭圆 28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2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椭圆 37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4" name="椭圆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圆角矩形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圆角矩形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圆角矩形 41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8" name="圆角矩形 42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5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52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0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Box 32"/>
          <p:cNvSpPr/>
          <p:nvPr/>
        </p:nvSpPr>
        <p:spPr>
          <a:xfrm>
            <a:off x="395280" y="838080"/>
            <a:ext cx="844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检验拼摆的角是不是直角，可以借助三角形的直角量一量。钝角比直角大，锐角比直角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08:22:00Z</dcterms:created>
  <dc:creator/>
  <dc:description/>
  <dc:language>en-US</dc:language>
  <cp:lastModifiedBy>万润仪器贸易公司</cp:lastModifiedBy>
  <dcterms:modified xsi:type="dcterms:W3CDTF">2020-08-21T00:43:05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